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5C9E5-E68A-4F98-A3C0-D5F5D16FDB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A5E2E-6DD9-49CD-A1B2-8926DFAB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D375A4-C8F7-4EB6-9233-9B2A8B04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B57E8C-6045-4795-9259-C5ED5FEB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3F9BDE-F696-40AD-9868-F911CE80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49128B-9E39-4CD0-AFAF-957DE1E6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22B4E9-90A1-4837-9A2E-80950D6A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E6A1D4-32A7-47F7-AA29-DE65F233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43DAD6-BCD9-4CB1-A58A-3559C4E0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592DC8-6F2F-49FB-9054-2889E316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132C73-9025-4886-B334-79D62A4A5A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43BD7-8E16-4F11-A4B0-647F5E0AE0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D4E7B-7CA4-4A9C-98A4-DAC8BFBB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C5064-5AA1-4E90-B068-05CC9869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C4FAC-AD0C-476E-B224-2A4A7491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C83A6-C2CE-4940-B2BB-8C6632C1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F61E3-ECB2-4FF2-A93B-ACFDEC29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4B827-4B82-4F2C-BD75-214D9F64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57423-D0F9-4B23-85CE-BB4901BF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7C163-FEF7-487F-B195-E05CD230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8A8FB-D98F-44A8-9386-C5513E26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D5DE0-10C2-4C61-BC30-1E1601F7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88CB1-A156-4BCE-B769-01CF9850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E56A9-2F2F-4DB2-97D7-AC1CB602D4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85EA7-6B62-4C06-B44F-C75A3BBF13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B7FE09-A555-43C9-BDA3-089B0ACDAD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1AFD66-0971-4C36-BF21-80C49FEC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AF2B2A-4EF4-48D6-82F6-1D180626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BA47EC-46FB-4265-B1D8-ED55C798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CD4C88-9FB4-48BF-92AE-3A55F3E0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412B78-D665-49D2-A6C0-A857D2FD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756F9E-A746-4F42-A941-24F9C957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994406-0437-48D8-A0F1-B6FD495D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20BD21-7161-4DA4-BF59-9A5E0FEB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18A09-270D-408B-BD59-AA363C31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FEE80F-DBFE-4F2A-9720-49C2F864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C7C5E6-A5F2-402B-8EF3-2AF7C97F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3B3646-69C3-43D0-89D1-88F4D93964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072F94-0579-4CFE-8CCE-546FB4DE27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8536D0-F3BB-48A7-B234-7FA81CB9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CD2673-81A5-4564-A9E5-45793B59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3F6F98-98C2-413D-A153-D7FBE379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BB2DAA-CA24-499F-87BA-DAFC9F7E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B69382-5A25-4EB0-8E88-52CDFB26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28605C-2B1E-4752-9EB8-303E3B4E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E500C-F6D7-44B8-8FA1-DE08BADB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AF01FD-456A-4F97-9C55-D3C220BC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0CE7F5-CDD0-4993-BC48-0F1676FF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5FF91B-EB0F-4D29-B720-991B67D2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6E0DD1-29CE-4281-A338-056D7610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76804D-0381-4431-A30B-688BDBD89C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DAA9D-4B21-4557-988F-6AAB63A436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C2093-F08B-4237-81A5-64885EC7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1752D-DF2F-4A82-88D8-856A2A39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C1DFF-52FF-4861-8C86-01CFBF30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EB98A-7280-4DEF-A966-0D0CE72F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BCC95-F610-4F10-A90D-434AB818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150DF-90D5-4B59-9749-87D8A133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955AC-661C-4490-945B-41573D93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D2863-982B-4880-8C27-E29B5839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831A6-CECA-49DE-91F7-E971E4BA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625BD-5E07-47A7-A0B2-2D36330F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78017-E9CE-4FC0-84A7-87A4990C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3162F-7AE4-4531-ACAA-BD16B5261A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E3DEF-B024-4DEA-B89D-28D4FF10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DAF0A-76EB-4949-B9BF-C093BEA7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A196D-9A75-46F8-94D8-282331E4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350B0-2B8D-4604-B7E9-AD5EDE58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DD6EE-763F-4DAD-B4AB-E351D890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1DB20-457C-439C-AFEB-B425184C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6A97D-79F3-4979-80C8-5FE9B4E1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18D9D-2FB6-403F-832A-C2CD7BFC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15247-835C-4E87-8251-CBC60AE6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C063F-ECEB-4220-AF82-510CFEB6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73FE0-0CA1-4BAC-B6CB-22C14305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39420-F809-4C4C-91F7-6D99032E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3AFB2-6808-4673-80DB-16C170FA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A3F4D-31B5-4541-B372-D3D86CF4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7C48A-08F0-4B8D-9CDB-664B9578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E5DCA-0349-4C3D-A519-0537D42D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6354F-39F2-4138-A9E6-67AAA404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302CF-4638-46D1-8514-A77969E5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CC2F2-0741-42EE-8B5F-B682A5CC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0DDD1-1441-42EE-A18D-FB3891B6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E1BB0-FF9E-4010-8D35-49F681F2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224EE-8D38-4812-8B1C-D3FE57D1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DC778-FCDE-4426-AC88-27CD9A95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C5550-09D9-4CBE-9CFF-D5BE2F31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241B7-D12E-4980-842F-1D39AA60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3C82E-85FA-45F1-BAA8-A687040F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E51FF-44CE-4D0F-ADFA-5A64400A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99FEE0-A2F7-44B2-A781-D94C0761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BAD32-595E-4C79-B623-56979F90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74C84-188F-474C-B1BA-B21E8B08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58004-56EC-4C34-B626-CC94FC53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403E8-45DC-49A8-BF85-DD1A7AED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3A461-FE34-4890-847C-39D39682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023B3-001F-4A1A-9590-9B1F0B04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EA30C-A9AD-4D26-BC98-A80EF9FE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49873-A99A-4B2C-A38B-F0E2EC9F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5560C-DF71-47A5-9FCF-742BF03F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6FD27-7E0E-44B9-805A-6BA56C09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E7FA0-211B-4E51-8808-E9F02756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C5372-ED5C-4825-A9F4-A105A03F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07736C-BD67-4926-AB22-8E7208CE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1E4EF0-E15C-42B9-A31D-F1E93A73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372741-19BA-4EDE-8663-3B00D797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95E907-C677-4189-8DFD-0C6BA139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7F27AF-C1A6-4E00-B66F-E6413E11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BD5B85-B099-493D-9A81-4A97D8C5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8E48D7-B3F8-4385-B2C3-40291601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9E6B5-9EE6-4DA8-867B-8F9242BB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91617-1135-4E26-8D4D-887F9E10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704D0D-E1CA-4879-98EF-8C2D1967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ED2771-7084-4912-ADC6-D50CAF52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72488A-030D-4D41-A20E-69B78509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FAD71-13B7-4560-8093-70396893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5A70B6-C641-49A0-8BB7-2F74E6E0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B3B549-F689-4082-9272-47CE7FC8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F6200C-E9AC-4AE3-B788-A5C59602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1F0128-D096-4A01-8C0F-944DB051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3BB51A-5D96-4A6C-AB6F-BFA41EA9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F82BB1-2BBA-4B83-B70E-EB1BB0F7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8E0C2-9397-4335-BE9F-61CFFC9D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C7FF80-916D-4628-B5B3-8DF4F410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861676-F199-449F-A8B5-5F0E8094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895517-B96A-4F82-8283-A1217671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0D14BE-BD08-4F55-A50F-DEF28CC9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05E140-2D8F-4698-8F02-0A0EA375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B8C73A-0726-43CF-8A7D-92E5D2A0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C3B531-7612-4FE9-A939-3162D16C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2F53AF-DCAB-4C1B-8F8A-4F5AB605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7D8AA7-48A2-4516-B428-71784A56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8A7BC5-31CE-4B80-9662-9AFAF395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A3F8B-EA4C-4E06-8AD9-83BF1BE1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DA7205-BBA0-493F-B7F9-60F25F25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043ADF-D076-4703-9540-E6731401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D09A8F-F4DE-474E-9910-452CE7A8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B196AD-92E5-45AA-AA8C-D2F5A918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DC78ED-5660-46F3-AD29-08530B5F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AC5384-DD7E-4970-8EE4-AFA2E32E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2A7812-1AA1-4813-8707-1C7C4508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949C84-D3DE-4745-A8B4-F98C2E4E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B034FF-B398-41FC-9BE7-2F542232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BE30DE-FE69-4EED-9D1A-18DA61A3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D8ADE-8963-4BF0-AFB2-BD26A60C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BD1B3B-C287-4E9D-95BC-6018BEC7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AE573D-4284-44FF-BCEA-65716D48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6A9410-5E1A-4334-8AAF-D3CC6F05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B61AC2-1DE8-4760-AF41-F351EF63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8C5AA5-6D0C-46C1-9940-3E289877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B43B3B-46A7-4F8C-8542-5FE19894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FE161C-6429-48C5-86B3-959C76E9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81C9C8-50B0-4260-A377-A34FE167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5F04DC-D6FF-4DCF-B3B0-C9351105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191623-21FB-471E-A0EA-108DCD2C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34E81-30D2-409B-AD97-2C075639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29D88B-2357-45F7-8C64-CA2CEEB1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7B771C-4DBB-4EAD-8EBC-75087C1E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22617E-A1A2-4E5B-86D1-533EF4F9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742EC0-C04A-4C3C-9A5D-36486086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5D62E5-6A8B-41FD-B0CA-138D263B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812D4B-FCDB-476F-8164-E293A716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9FE961-586C-473D-AD9E-66A52284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146F17-7389-4F29-BCE6-5231F464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5C1915-2FEE-49C6-BB01-E4822FF2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CF5AE1-00D2-49F8-8AEA-7D0941C8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2A6915-6C2A-4C0C-AB04-B9D87716A9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36D07B-B2EF-4ED3-9086-5D651B8E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D75F52-5041-43BB-995F-84F95FC6A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A5CA1C-DA23-4FBA-8C30-54F16161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13561D-ABB8-4CC0-BF87-D2B6D274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AB3053-E52B-4122-A764-26B493B7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FEA9E6-7616-44E2-94DB-6740B5C0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36AB69-837C-4B7D-8E72-F5DC03B3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93CA21-26B3-4C40-B55E-6CC81766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614C70-86A2-4DB6-B7AA-B2A392CD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6DC31B-ED88-4713-8550-974C5AB4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934721-4A8E-417D-BF70-92ED5FFC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D8D024-534A-4C04-88B1-B628F3CE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9C11D8-524E-4AB8-91FC-BB684ECB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7A46B5-46AE-4CD3-895D-BA332FF1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16D058-F887-47A3-BE62-9146A1C5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DD90FF-1F12-44AE-988F-A0E45B7F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C52A56-6104-43C9-BCD6-414BAE42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F44A83-7914-416A-8AC6-B999500C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24E88D-A728-413F-ADB8-F1D51A72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3F57E5-4B97-49F0-98AB-E42EF9EB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1DB3AD-A7DB-4195-926A-42785178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890B82-96FE-4B64-BCD1-3A6F7CCC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54AECA-8836-4FE8-B61E-14E1DA56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6273F2-9340-4ACB-BAFE-0CDAA737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56F4F2-41A5-4A0B-95B3-BB23EF13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6C8A96-F4C6-4A8B-A9B0-1EAB634A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CAAB7A-1271-4B06-B44E-B7633CD4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8A5B65-8067-472D-B0CA-CA5043B2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FF26E7-F950-43B6-888C-9FCCF8A8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1FD50D-9828-4426-B1E5-9CFA0103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1B5D15-7AE6-44AD-A063-A712FCCB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650ABE-5A4E-4B77-8EEF-E50F5EB9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73155D-B81D-4EB7-9153-36D30796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417B1B-D021-42D9-B40D-18D19ABD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C61F6C-C83D-4B27-AFCF-5F232552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FEF55A-EC8A-4C1B-948C-D9097447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93F33C-4C41-4667-AAF2-AC445BAB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893B92-8C35-4DA1-BB7F-D52093B5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AA0F8D-E0F9-415E-9981-D1A86525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BD234E-7388-4116-8490-6756757C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2722C5-0EC8-4894-B6F5-F57C7163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96F544-5BA4-4C07-85EA-C6AEB1FA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B7CF10-E3BB-44C5-9A23-3714B8F4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01174-E24D-46E2-AFDE-B291F74A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2B14E7-B2DC-4A7D-854C-E96FE34A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221759-E74E-4CA8-9799-318DEE4C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5E99A9-0512-403E-A310-9A001FE3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CF42A9-FA1A-4861-9D7D-13B932AA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2E4A91-165B-494E-A728-28C174BD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971BE7-90BA-4363-947C-29305151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6DA4E1-F70B-4AE6-869C-D306CB0E8E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02876-F66A-4129-8CAA-3262F71563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E4563-81B5-405A-8679-34CCB16C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667A8-5BAD-4193-A832-86BB884A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56B6F-C718-4ED4-92F5-02E58509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71160-2155-4848-B6A7-7FE01468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7BD3E-6101-4A54-AAEF-87D94C74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F923A-E5D1-4CB6-A27A-CB7333EA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614FD-D326-4F37-860F-14A5D157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405B6-786A-4C5E-B314-4A160CEE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D8F06-225A-49A1-A561-1FF232EE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36EE4-D70F-4CE8-B8D1-2E905E03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1F21E-EC6F-4CC8-BB9C-7D74D310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FAF9C-0491-4D1A-9AF2-51EFD34C37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F888DD-80F4-456C-8A6D-7F52BACCA5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6AF6A-D55F-47D4-BD85-4CBD4AD7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DE1A9D-413C-49F9-B993-A42CEFC6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FE953A-074A-4703-8976-86B255C1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1A0B59-38EA-4CC2-90D0-4035DA72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AE68CB-CB4A-43F2-810D-474E69FE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580EAE-0ECE-413B-BBF4-B2AF00AB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8E53EB-20A2-4655-AF21-651AA558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6D260D-D44D-451B-AF3A-D19F4C1E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AE64A4-49AF-4C7F-B75F-800AF658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3A042F-1F20-4B3C-81C6-66DCF182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B92FCC-9906-47C0-A12F-357F0D06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7AB00-C11B-4E0A-9426-0F792F14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7F876D-3219-4E21-AE66-76F6FFB456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8B5FDB-43F3-4A15-A984-38492B341F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B8E909-2332-49BB-951F-B00CCE97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51FF5D-F4E9-4F6F-87E1-5EE8AC87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2207B7-DB28-4B0D-AEDB-65809EA1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E2A686-D8A0-4806-BDF8-B2800BD0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EABC11-C884-4D42-BFF8-F1840A2D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D1B357-16BB-42E0-B7E3-B65BFA5D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DF0A72-EB67-4745-81E5-7F03BBBF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60B564-19F6-4C5B-A8FD-E231946A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68B4D-6C2F-4A54-9EC8-A1487A65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E6FD42-70B2-4879-9030-021371FB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7F037E-3012-405F-A111-BDCD5CBF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B5438E-DF9E-4640-966F-A2C7F48904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D433E-602B-42F7-BEED-32DA8332CA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051B4-5D56-4B45-B65F-0B8FCB86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501D7-C80B-4DD5-92AC-8CE4A52C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39D28-A4DF-4FFC-BE7F-D56EE9A9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073A4-379B-4567-B00B-10E908EB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DEFC8-FFDA-489A-9407-B1F900B2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CCCDC-BBF5-43B2-905C-5E18F874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AE9E9-748E-4F67-B7EE-43C9D87A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8CA13-5708-49AF-B259-CF1C2B6E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1E01A-5746-48DB-91D1-C0940502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B7453-1167-4A63-8658-99528D75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BFCB0-A29C-4136-93A4-7C28FBB9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545E5-A485-4DC8-B258-0D7233D251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F3D0E4-769F-46A4-8937-67F0843161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70F615-D7C0-4E5B-B698-D205F7FC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B85AF8-CBCE-48C3-87FA-A6D2FD09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06472C-B5CC-4BB6-BB6C-4B831FAB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3BD951-9496-43DE-B489-9FF3A2D6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3BBA1-02D5-46A6-8450-4079E67A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6454BC-BFB6-4FE5-B0C7-D265E393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0D7936-B197-4FFC-98BA-78088BA3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E6A000-67D7-4008-AB47-4EC1135E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40D0E8-74C8-4153-8832-21B2CF91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563CFC-EDD9-429E-A3D6-2EA6D75C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B96C22-E774-49EA-8A04-6D0A37CC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A97D44-AB51-48A8-9301-7CCE0BEA62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5772F6-4871-4CF9-A0E7-2C7EC33EB8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4852B3-4679-4093-941E-1F3A4FF6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0C87C4-CB91-4530-9673-A87BA622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FAE9-3FD2-4BF1-A764-7204CB393D5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1D06-C084-4A09-AED8-C992C2892C2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AAF2-33DE-4B36-83AD-9A26382D346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5573-F74C-4CD4-9A7C-5935CA6070A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03A5-A817-47C9-8CD5-7D63501D1CC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8B48-358B-456A-87C2-FFAE8879835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DBC3-3E50-4158-B1BD-A53EC514C6B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6753-A90D-4401-B91A-9C6160E3967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DF59-47F8-4BBA-B36B-AB70A423AF9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69FC-A1DC-49D8-B7B4-76587555034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290C-8EB1-442C-9E54-C8E137404FA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3065-D60C-4B1C-AA1E-F9DDF86F274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E4E8-12CE-4D7C-AC6B-DC79B20ADE8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2AB7-FC32-4B34-914F-8B1F325087A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D9A6-C8EB-49BC-AB89-6938776674A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5007-A009-4A6E-B81E-6F770AE9799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F198-A02D-4829-874A-C5A74C91A12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3801-2718-48B2-9293-04F892B7CCC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185A-6981-494B-9C21-78204F76F30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0447-832D-48AC-B7A7-CFCD3D8675A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D6EB-A0B9-4CDC-A4C8-DE37271DA68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7948-164C-4954-A3AE-4E3621B229D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8B9A-0BFD-4CCE-8794-E1F73344FB3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E41B-1A5F-4ADE-B96B-A2E6F5AC486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Oval 5"/>
          <p:cNvSpPr/>
          <p:nvPr/>
        </p:nvSpPr>
        <p:spPr>
          <a:xfrm>
            <a:off x="1646280" y="2770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6"/>
          <p:cNvSpPr/>
          <p:nvPr/>
        </p:nvSpPr>
        <p:spPr>
          <a:xfrm>
            <a:off x="-436680" y="2727360"/>
            <a:ext cx="8444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8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 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9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 加 减 法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2284560" y="2448000"/>
            <a:ext cx="5243400" cy="6120"/>
            <a:chOff x="2284560" y="2448000"/>
            <a:chExt cx="5243400" cy="6120"/>
          </a:xfrm>
        </p:grpSpPr>
        <p:sp>
          <p:nvSpPr>
            <p:cNvPr id="989" name="Line 10"/>
            <p:cNvSpPr/>
            <p:nvPr/>
          </p:nvSpPr>
          <p:spPr>
            <a:xfrm>
              <a:off x="2284560" y="2448000"/>
              <a:ext cx="5243400" cy="612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 txBox="1"/>
            <p:nvPr/>
          </p:nvSpPr>
          <p:spPr>
            <a:xfrm>
              <a:off x="2284560" y="2448000"/>
              <a:ext cx="524340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9"/>
          <p:cNvSpPr/>
          <p:nvPr/>
        </p:nvSpPr>
        <p:spPr>
          <a:xfrm>
            <a:off x="-765000" y="1766880"/>
            <a:ext cx="84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5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6~10</a:t>
            </a:r>
            <a:r>
              <a:rPr b="1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认识和加减法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一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组合 2"/>
          <p:cNvGrpSpPr/>
          <p:nvPr/>
        </p:nvGrpSpPr>
        <p:grpSpPr>
          <a:xfrm>
            <a:off x="0" y="155520"/>
            <a:ext cx="3713040" cy="527040"/>
            <a:chOff x="0" y="155520"/>
            <a:chExt cx="3713040" cy="527040"/>
          </a:xfrm>
        </p:grpSpPr>
        <p:pic>
          <p:nvPicPr>
            <p:cNvPr id="99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6400" y="155520"/>
              <a:ext cx="3536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9" name="组合 4"/>
            <p:cNvGrpSpPr/>
            <p:nvPr/>
          </p:nvGrpSpPr>
          <p:grpSpPr>
            <a:xfrm>
              <a:off x="0" y="250560"/>
              <a:ext cx="493560" cy="274680"/>
              <a:chOff x="0" y="250560"/>
              <a:chExt cx="493560" cy="274680"/>
            </a:xfrm>
          </p:grpSpPr>
          <p:sp>
            <p:nvSpPr>
              <p:cNvPr id="1000" name="椭圆 11"/>
              <p:cNvSpPr/>
              <p:nvPr/>
            </p:nvSpPr>
            <p:spPr>
              <a:xfrm rot="16200000">
                <a:off x="254880" y="41184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1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2880" y="36504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椭圆 29"/>
              <p:cNvSpPr/>
              <p:nvPr/>
            </p:nvSpPr>
            <p:spPr>
              <a:xfrm rot="16200000">
                <a:off x="254880" y="28188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72880" y="26352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794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542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757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505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08" name="内容占位符 4097" descr="sy_20100831204819333050[1]"/>
          <p:cNvPicPr/>
          <p:nvPr/>
        </p:nvPicPr>
        <p:blipFill>
          <a:blip r:embed="rId8"/>
          <a:stretch/>
        </p:blipFill>
        <p:spPr>
          <a:xfrm>
            <a:off x="108000" y="4005360"/>
            <a:ext cx="2089080" cy="2185920"/>
          </a:xfrm>
          <a:prstGeom prst="rect">
            <a:avLst/>
          </a:prstGeom>
          <a:ln w="0">
            <a:noFill/>
          </a:ln>
        </p:spPr>
      </p:pic>
      <p:pic>
        <p:nvPicPr>
          <p:cNvPr id="1009" name="内容占位符 4098" descr="小牛"/>
          <p:cNvPicPr/>
          <p:nvPr/>
        </p:nvPicPr>
        <p:blipFill>
          <a:blip r:embed="rId9"/>
          <a:stretch/>
        </p:blipFill>
        <p:spPr>
          <a:xfrm>
            <a:off x="4356000" y="2205000"/>
            <a:ext cx="1185840" cy="961920"/>
          </a:xfrm>
          <a:prstGeom prst="rect">
            <a:avLst/>
          </a:prstGeom>
          <a:ln w="0">
            <a:noFill/>
          </a:ln>
        </p:spPr>
      </p:pic>
      <p:pic>
        <p:nvPicPr>
          <p:cNvPr id="1010" name="内容占位符 4099" descr="小牛"/>
          <p:cNvPicPr/>
          <p:nvPr/>
        </p:nvPicPr>
        <p:blipFill>
          <a:blip r:embed="rId10"/>
          <a:stretch/>
        </p:blipFill>
        <p:spPr>
          <a:xfrm>
            <a:off x="1044720" y="2206800"/>
            <a:ext cx="1187280" cy="963360"/>
          </a:xfrm>
          <a:prstGeom prst="rect">
            <a:avLst/>
          </a:prstGeom>
          <a:ln w="0">
            <a:noFill/>
          </a:ln>
        </p:spPr>
      </p:pic>
      <p:grpSp>
        <p:nvGrpSpPr>
          <p:cNvPr id="1011" name="组合 4100"/>
          <p:cNvGrpSpPr/>
          <p:nvPr/>
        </p:nvGrpSpPr>
        <p:grpSpPr>
          <a:xfrm>
            <a:off x="2124000" y="3718080"/>
            <a:ext cx="3600360" cy="1008000"/>
            <a:chOff x="2124000" y="3718080"/>
            <a:chExt cx="3600360" cy="1008000"/>
          </a:xfrm>
        </p:grpSpPr>
        <p:sp>
          <p:nvSpPr>
            <p:cNvPr id="1012" name="圆角矩形标注 4101"/>
            <p:cNvSpPr/>
            <p:nvPr/>
          </p:nvSpPr>
          <p:spPr>
            <a:xfrm>
              <a:off x="2124000" y="3718080"/>
              <a:ext cx="3600360" cy="1008000"/>
            </a:xfrm>
            <a:prstGeom prst="wedgeRoundRectCallout">
              <a:avLst>
                <a:gd name="adj1" fmla="val -43750"/>
                <a:gd name="adj2" fmla="val 70000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文本框 4102"/>
            <p:cNvSpPr/>
            <p:nvPr/>
          </p:nvSpPr>
          <p:spPr>
            <a:xfrm>
              <a:off x="2339640" y="3862080"/>
              <a:ext cx="33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宋体"/>
                </a:rPr>
                <a:t>图上画着什么？你能写出哪些算式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4" name="图片 4103" descr="小牛"/>
          <p:cNvPicPr/>
          <p:nvPr/>
        </p:nvPicPr>
        <p:blipFill>
          <a:blip r:embed="rId11"/>
          <a:stretch/>
        </p:blipFill>
        <p:spPr>
          <a:xfrm>
            <a:off x="1044720" y="1054080"/>
            <a:ext cx="1184040" cy="960480"/>
          </a:xfrm>
          <a:prstGeom prst="rect">
            <a:avLst/>
          </a:prstGeom>
          <a:ln w="0">
            <a:noFill/>
          </a:ln>
        </p:spPr>
      </p:pic>
      <p:pic>
        <p:nvPicPr>
          <p:cNvPr id="1015" name="图片 4104" descr="小牛"/>
          <p:cNvPicPr/>
          <p:nvPr/>
        </p:nvPicPr>
        <p:blipFill>
          <a:blip r:embed="rId12"/>
          <a:stretch/>
        </p:blipFill>
        <p:spPr>
          <a:xfrm>
            <a:off x="2700360" y="1054080"/>
            <a:ext cx="1185840" cy="960480"/>
          </a:xfrm>
          <a:prstGeom prst="rect">
            <a:avLst/>
          </a:prstGeom>
          <a:ln w="0">
            <a:noFill/>
          </a:ln>
        </p:spPr>
      </p:pic>
      <p:pic>
        <p:nvPicPr>
          <p:cNvPr id="1016" name="图片 4105" descr="小牛"/>
          <p:cNvPicPr/>
          <p:nvPr/>
        </p:nvPicPr>
        <p:blipFill>
          <a:blip r:embed="rId13"/>
          <a:stretch/>
        </p:blipFill>
        <p:spPr>
          <a:xfrm>
            <a:off x="2665440" y="2206800"/>
            <a:ext cx="1185840" cy="960120"/>
          </a:xfrm>
          <a:prstGeom prst="rect">
            <a:avLst/>
          </a:prstGeom>
          <a:ln w="0">
            <a:noFill/>
          </a:ln>
        </p:spPr>
      </p:pic>
      <p:pic>
        <p:nvPicPr>
          <p:cNvPr id="1017" name="图片 4106" descr="小牛"/>
          <p:cNvPicPr/>
          <p:nvPr/>
        </p:nvPicPr>
        <p:blipFill>
          <a:blip r:embed="rId14"/>
          <a:stretch/>
        </p:blipFill>
        <p:spPr>
          <a:xfrm>
            <a:off x="4356000" y="1054080"/>
            <a:ext cx="1185840" cy="960480"/>
          </a:xfrm>
          <a:prstGeom prst="rect">
            <a:avLst/>
          </a:prstGeom>
          <a:ln w="0">
            <a:noFill/>
          </a:ln>
        </p:spPr>
      </p:pic>
      <p:pic>
        <p:nvPicPr>
          <p:cNvPr id="1018" name="图片 4107" descr="小牛"/>
          <p:cNvPicPr/>
          <p:nvPr/>
        </p:nvPicPr>
        <p:blipFill>
          <a:blip r:embed="rId15"/>
          <a:stretch/>
        </p:blipFill>
        <p:spPr>
          <a:xfrm>
            <a:off x="6877080" y="1054080"/>
            <a:ext cx="1185840" cy="960480"/>
          </a:xfrm>
          <a:prstGeom prst="rect">
            <a:avLst/>
          </a:prstGeom>
          <a:ln w="0">
            <a:noFill/>
          </a:ln>
        </p:spPr>
      </p:pic>
      <p:pic>
        <p:nvPicPr>
          <p:cNvPr id="1019" name="图片 4108" descr="小牛"/>
          <p:cNvPicPr/>
          <p:nvPr/>
        </p:nvPicPr>
        <p:blipFill>
          <a:blip r:embed="rId16"/>
          <a:stretch/>
        </p:blipFill>
        <p:spPr>
          <a:xfrm>
            <a:off x="6948360" y="2205000"/>
            <a:ext cx="1185840" cy="960480"/>
          </a:xfrm>
          <a:prstGeom prst="rect">
            <a:avLst/>
          </a:prstGeom>
          <a:ln w="0">
            <a:noFill/>
          </a:ln>
        </p:spPr>
      </p:pic>
      <p:sp>
        <p:nvSpPr>
          <p:cNvPr id="1020" name="TextBox 5"/>
          <p:cNvSpPr/>
          <p:nvPr/>
        </p:nvSpPr>
        <p:spPr>
          <a:xfrm>
            <a:off x="1041480" y="117360"/>
            <a:ext cx="228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Calibri"/>
                <a:ea typeface="宋体"/>
              </a:rPr>
              <a:t>探究新知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1" name="Group 15"/>
          <p:cNvGrpSpPr/>
          <p:nvPr/>
        </p:nvGrpSpPr>
        <p:grpSpPr>
          <a:xfrm>
            <a:off x="6084720" y="1714680"/>
            <a:ext cx="2133720" cy="1481400"/>
            <a:chOff x="6084720" y="1714680"/>
            <a:chExt cx="2133720" cy="1481400"/>
          </a:xfrm>
        </p:grpSpPr>
        <p:sp>
          <p:nvSpPr>
            <p:cNvPr id="1022" name="Text Box 11"/>
            <p:cNvSpPr/>
            <p:nvPr/>
          </p:nvSpPr>
          <p:spPr>
            <a:xfrm>
              <a:off x="6084720" y="1714680"/>
              <a:ext cx="2133720" cy="642600"/>
            </a:xfrm>
            <a:prstGeom prst="rect">
              <a:avLst/>
            </a:prstGeom>
            <a:gradFill rotWithShape="0">
              <a:gsLst>
                <a:gs pos="0">
                  <a:srgbClr val="90ffda"/>
                </a:gs>
                <a:gs pos="100000">
                  <a:srgbClr val="e0fff4"/>
                </a:gs>
              </a:gsLst>
              <a:lin ang="5400000"/>
            </a:gradFill>
            <a:ln w="9360">
              <a:solidFill>
                <a:srgbClr val="00cc98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6</a:t>
              </a:r>
              <a:r>
                <a:rPr b="0" lang="zh-CN" sz="36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＋</a:t>
              </a:r>
              <a:r>
                <a:rPr b="0" lang="zh-CN" sz="36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2 = 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Text Box 12"/>
            <p:cNvSpPr/>
            <p:nvPr/>
          </p:nvSpPr>
          <p:spPr>
            <a:xfrm>
              <a:off x="6084720" y="2553480"/>
              <a:ext cx="2133720" cy="642600"/>
            </a:xfrm>
            <a:prstGeom prst="rect">
              <a:avLst/>
            </a:prstGeom>
            <a:gradFill rotWithShape="0">
              <a:gsLst>
                <a:gs pos="0">
                  <a:srgbClr val="90ffda"/>
                </a:gs>
                <a:gs pos="100000">
                  <a:srgbClr val="e0fff4"/>
                </a:gs>
              </a:gsLst>
              <a:lin ang="5400000"/>
            </a:gradFill>
            <a:ln w="9360">
              <a:solidFill>
                <a:srgbClr val="00cc98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2</a:t>
              </a:r>
              <a:r>
                <a:rPr b="0" lang="zh-CN" sz="36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＋</a:t>
              </a:r>
              <a:r>
                <a:rPr b="0" lang="zh-CN" sz="36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6 = 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16"/>
          <p:cNvGrpSpPr/>
          <p:nvPr/>
        </p:nvGrpSpPr>
        <p:grpSpPr>
          <a:xfrm>
            <a:off x="6084720" y="3429000"/>
            <a:ext cx="2133720" cy="1481400"/>
            <a:chOff x="6084720" y="3429000"/>
            <a:chExt cx="2133720" cy="1481400"/>
          </a:xfrm>
        </p:grpSpPr>
        <p:sp>
          <p:nvSpPr>
            <p:cNvPr id="1025" name="Text Box 13"/>
            <p:cNvSpPr/>
            <p:nvPr/>
          </p:nvSpPr>
          <p:spPr>
            <a:xfrm>
              <a:off x="6084720" y="3429000"/>
              <a:ext cx="2133720" cy="642600"/>
            </a:xfrm>
            <a:prstGeom prst="rect">
              <a:avLst/>
            </a:prstGeom>
            <a:gradFill rotWithShape="0">
              <a:gsLst>
                <a:gs pos="0">
                  <a:srgbClr val="9fa4f5"/>
                </a:gs>
                <a:gs pos="100000">
                  <a:srgbClr val="e5e6fd"/>
                </a:gs>
              </a:gsLst>
              <a:lin ang="5400000"/>
            </a:gradFill>
            <a:ln w="9360">
              <a:solidFill>
                <a:srgbClr val="0023a5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8</a:t>
              </a:r>
              <a:r>
                <a:rPr b="0" lang="zh-CN" sz="36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－</a:t>
              </a:r>
              <a:r>
                <a:rPr b="0" lang="zh-CN" sz="36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2 = 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14"/>
            <p:cNvSpPr/>
            <p:nvPr/>
          </p:nvSpPr>
          <p:spPr>
            <a:xfrm>
              <a:off x="6084720" y="4267800"/>
              <a:ext cx="2133720" cy="642600"/>
            </a:xfrm>
            <a:prstGeom prst="rect">
              <a:avLst/>
            </a:prstGeom>
            <a:gradFill rotWithShape="0">
              <a:gsLst>
                <a:gs pos="0">
                  <a:srgbClr val="9fa4f5"/>
                </a:gs>
                <a:gs pos="100000">
                  <a:srgbClr val="e5e6fd"/>
                </a:gs>
              </a:gsLst>
              <a:lin ang="5400000"/>
            </a:gradFill>
            <a:ln w="9360">
              <a:solidFill>
                <a:srgbClr val="0023a5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8</a:t>
              </a:r>
              <a:r>
                <a:rPr b="0" lang="zh-CN" sz="36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－</a:t>
              </a:r>
              <a:r>
                <a:rPr b="0" lang="zh-CN" sz="36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6 = 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7" name="图片 5127" descr="小牛"/>
          <p:cNvPicPr/>
          <p:nvPr/>
        </p:nvPicPr>
        <p:blipFill>
          <a:blip r:embed="rId1"/>
          <a:stretch/>
        </p:blipFill>
        <p:spPr>
          <a:xfrm>
            <a:off x="2627280" y="3643200"/>
            <a:ext cx="1274760" cy="103356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5128" descr="小牛"/>
          <p:cNvPicPr/>
          <p:nvPr/>
        </p:nvPicPr>
        <p:blipFill>
          <a:blip r:embed="rId2"/>
          <a:stretch/>
        </p:blipFill>
        <p:spPr>
          <a:xfrm>
            <a:off x="250920" y="3643200"/>
            <a:ext cx="1276200" cy="103680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5129" descr="小牛"/>
          <p:cNvPicPr/>
          <p:nvPr/>
        </p:nvPicPr>
        <p:blipFill>
          <a:blip r:embed="rId3"/>
          <a:stretch/>
        </p:blipFill>
        <p:spPr>
          <a:xfrm>
            <a:off x="252360" y="1987560"/>
            <a:ext cx="1274760" cy="103500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5130" descr="小牛"/>
          <p:cNvPicPr/>
          <p:nvPr/>
        </p:nvPicPr>
        <p:blipFill>
          <a:blip r:embed="rId4"/>
          <a:stretch/>
        </p:blipFill>
        <p:spPr>
          <a:xfrm>
            <a:off x="1442880" y="1987560"/>
            <a:ext cx="1274760" cy="103500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5131" descr="小牛"/>
          <p:cNvPicPr/>
          <p:nvPr/>
        </p:nvPicPr>
        <p:blipFill>
          <a:blip r:embed="rId5"/>
          <a:stretch/>
        </p:blipFill>
        <p:spPr>
          <a:xfrm>
            <a:off x="1440000" y="3643200"/>
            <a:ext cx="1274760" cy="103356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5132" descr="小牛"/>
          <p:cNvPicPr/>
          <p:nvPr/>
        </p:nvPicPr>
        <p:blipFill>
          <a:blip r:embed="rId6"/>
          <a:stretch/>
        </p:blipFill>
        <p:spPr>
          <a:xfrm>
            <a:off x="2631960" y="1987560"/>
            <a:ext cx="1274760" cy="103500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5133" descr="小牛"/>
          <p:cNvPicPr/>
          <p:nvPr/>
        </p:nvPicPr>
        <p:blipFill>
          <a:blip r:embed="rId7"/>
          <a:stretch/>
        </p:blipFill>
        <p:spPr>
          <a:xfrm>
            <a:off x="4357800" y="1990800"/>
            <a:ext cx="1274760" cy="103356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5134" descr="小牛"/>
          <p:cNvPicPr/>
          <p:nvPr/>
        </p:nvPicPr>
        <p:blipFill>
          <a:blip r:embed="rId8"/>
          <a:stretch/>
        </p:blipFill>
        <p:spPr>
          <a:xfrm>
            <a:off x="4427640" y="3645000"/>
            <a:ext cx="1274760" cy="1035000"/>
          </a:xfrm>
          <a:prstGeom prst="rect">
            <a:avLst/>
          </a:prstGeom>
          <a:ln w="0">
            <a:noFill/>
          </a:ln>
        </p:spPr>
      </p:pic>
      <p:grpSp>
        <p:nvGrpSpPr>
          <p:cNvPr id="1035" name="组合 2"/>
          <p:cNvGrpSpPr/>
          <p:nvPr/>
        </p:nvGrpSpPr>
        <p:grpSpPr>
          <a:xfrm>
            <a:off x="0" y="155520"/>
            <a:ext cx="3713040" cy="527040"/>
            <a:chOff x="0" y="155520"/>
            <a:chExt cx="3713040" cy="527040"/>
          </a:xfrm>
        </p:grpSpPr>
        <p:pic>
          <p:nvPicPr>
            <p:cNvPr id="1036" name="圆角矩形 5" descr=""/>
            <p:cNvPicPr/>
            <p:nvPr/>
          </p:nvPicPr>
          <p:blipFill>
            <a:blip r:embed="rId9"/>
            <a:stretch/>
          </p:blipFill>
          <p:spPr>
            <a:xfrm>
              <a:off x="176400" y="155520"/>
              <a:ext cx="3536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7" name="组合 4"/>
            <p:cNvGrpSpPr/>
            <p:nvPr/>
          </p:nvGrpSpPr>
          <p:grpSpPr>
            <a:xfrm>
              <a:off x="0" y="250560"/>
              <a:ext cx="493560" cy="274680"/>
              <a:chOff x="0" y="250560"/>
              <a:chExt cx="493560" cy="274680"/>
            </a:xfrm>
          </p:grpSpPr>
          <p:sp>
            <p:nvSpPr>
              <p:cNvPr id="1038" name="椭圆 11"/>
              <p:cNvSpPr/>
              <p:nvPr/>
            </p:nvSpPr>
            <p:spPr>
              <a:xfrm rot="16200000">
                <a:off x="254880" y="41184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9" name="椭圆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272880" y="36504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0" name="椭圆 29"/>
              <p:cNvSpPr/>
              <p:nvPr/>
            </p:nvSpPr>
            <p:spPr>
              <a:xfrm rot="16200000">
                <a:off x="254880" y="28188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1" name="椭圆 3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72880" y="26352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2" name="圆角矩形 31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3794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圆角矩形 32" descr=""/>
              <p:cNvPicPr/>
              <p:nvPr/>
            </p:nvPicPr>
            <p:blipFill>
              <a:blip r:embed="rId13"/>
              <a:stretch/>
            </p:blipFill>
            <p:spPr>
              <a:xfrm>
                <a:off x="0" y="3542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4" name="圆角矩形 33" descr=""/>
              <p:cNvPicPr/>
              <p:nvPr/>
            </p:nvPicPr>
            <p:blipFill>
              <a:blip r:embed="rId14"/>
              <a:stretch/>
            </p:blipFill>
            <p:spPr>
              <a:xfrm>
                <a:off x="0" y="2757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5" name="圆角矩形 34" descr=""/>
              <p:cNvPicPr/>
              <p:nvPr/>
            </p:nvPicPr>
            <p:blipFill>
              <a:blip r:embed="rId15"/>
              <a:stretch/>
            </p:blipFill>
            <p:spPr>
              <a:xfrm>
                <a:off x="0" y="2505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Group 45"/>
          <p:cNvGrpSpPr/>
          <p:nvPr/>
        </p:nvGrpSpPr>
        <p:grpSpPr>
          <a:xfrm>
            <a:off x="1763640" y="1989000"/>
            <a:ext cx="3733920" cy="380880"/>
            <a:chOff x="1763640" y="1989000"/>
            <a:chExt cx="3733920" cy="380880"/>
          </a:xfrm>
        </p:grpSpPr>
        <p:sp>
          <p:nvSpPr>
            <p:cNvPr id="1047" name="Oval 9"/>
            <p:cNvSpPr/>
            <p:nvPr/>
          </p:nvSpPr>
          <p:spPr>
            <a:xfrm>
              <a:off x="1763640" y="19890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10"/>
            <p:cNvSpPr/>
            <p:nvPr/>
          </p:nvSpPr>
          <p:spPr>
            <a:xfrm>
              <a:off x="5116320" y="19890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11"/>
            <p:cNvSpPr/>
            <p:nvPr/>
          </p:nvSpPr>
          <p:spPr>
            <a:xfrm>
              <a:off x="2297160" y="19890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12"/>
            <p:cNvSpPr/>
            <p:nvPr/>
          </p:nvSpPr>
          <p:spPr>
            <a:xfrm>
              <a:off x="2830320" y="19890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13"/>
            <p:cNvSpPr/>
            <p:nvPr/>
          </p:nvSpPr>
          <p:spPr>
            <a:xfrm>
              <a:off x="4545000" y="19890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14"/>
            <p:cNvSpPr/>
            <p:nvPr/>
          </p:nvSpPr>
          <p:spPr>
            <a:xfrm>
              <a:off x="3973320" y="19890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Oval 15"/>
            <p:cNvSpPr/>
            <p:nvPr/>
          </p:nvSpPr>
          <p:spPr>
            <a:xfrm>
              <a:off x="3363840" y="19890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Oval 16"/>
          <p:cNvSpPr/>
          <p:nvPr/>
        </p:nvSpPr>
        <p:spPr>
          <a:xfrm>
            <a:off x="5649840" y="1989000"/>
            <a:ext cx="381240" cy="381240"/>
          </a:xfrm>
          <a:prstGeom prst="ellipse">
            <a:avLst/>
          </a:prstGeom>
          <a:solidFill>
            <a:srgbClr val="d9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Oval 17"/>
          <p:cNvSpPr/>
          <p:nvPr/>
        </p:nvSpPr>
        <p:spPr>
          <a:xfrm>
            <a:off x="6183360" y="1989000"/>
            <a:ext cx="380880" cy="381240"/>
          </a:xfrm>
          <a:prstGeom prst="ellipse">
            <a:avLst/>
          </a:prstGeom>
          <a:solidFill>
            <a:srgbClr val="d9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8"/>
          <p:cNvSpPr/>
          <p:nvPr/>
        </p:nvSpPr>
        <p:spPr>
          <a:xfrm>
            <a:off x="1547640" y="836640"/>
            <a:ext cx="21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宋体"/>
              </a:rPr>
              <a:t>摆一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Group 19"/>
          <p:cNvGrpSpPr/>
          <p:nvPr/>
        </p:nvGrpSpPr>
        <p:grpSpPr>
          <a:xfrm>
            <a:off x="1823400" y="2654280"/>
            <a:ext cx="2483280" cy="703440"/>
            <a:chOff x="1823400" y="2654280"/>
            <a:chExt cx="2483280" cy="703440"/>
          </a:xfrm>
        </p:grpSpPr>
        <p:sp>
          <p:nvSpPr>
            <p:cNvPr id="1058" name="Text Box 20"/>
            <p:cNvSpPr/>
            <p:nvPr/>
          </p:nvSpPr>
          <p:spPr>
            <a:xfrm>
              <a:off x="1823400" y="2654280"/>
              <a:ext cx="173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7</a:t>
              </a:r>
              <a:r>
                <a:rPr b="0" lang="zh-CN" sz="40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＋</a:t>
              </a:r>
              <a:r>
                <a:rPr b="0" lang="zh-CN" sz="40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2 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21"/>
            <p:cNvSpPr/>
            <p:nvPr/>
          </p:nvSpPr>
          <p:spPr>
            <a:xfrm>
              <a:off x="3544920" y="2786040"/>
              <a:ext cx="761760" cy="53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Group 22"/>
          <p:cNvGrpSpPr/>
          <p:nvPr/>
        </p:nvGrpSpPr>
        <p:grpSpPr>
          <a:xfrm>
            <a:off x="4865040" y="2676600"/>
            <a:ext cx="2473920" cy="703440"/>
            <a:chOff x="4865040" y="2676600"/>
            <a:chExt cx="2473920" cy="703440"/>
          </a:xfrm>
        </p:grpSpPr>
        <p:sp>
          <p:nvSpPr>
            <p:cNvPr id="1061" name="Text Box 23"/>
            <p:cNvSpPr/>
            <p:nvPr/>
          </p:nvSpPr>
          <p:spPr>
            <a:xfrm>
              <a:off x="4865040" y="2676600"/>
              <a:ext cx="173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2</a:t>
              </a:r>
              <a:r>
                <a:rPr b="0" lang="zh-CN" sz="40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＋</a:t>
              </a:r>
              <a:r>
                <a:rPr b="0" lang="zh-CN" sz="40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7 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24"/>
            <p:cNvSpPr/>
            <p:nvPr/>
          </p:nvSpPr>
          <p:spPr>
            <a:xfrm>
              <a:off x="6576840" y="2786040"/>
              <a:ext cx="762120" cy="53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Text Box 25"/>
          <p:cNvSpPr/>
          <p:nvPr/>
        </p:nvSpPr>
        <p:spPr>
          <a:xfrm>
            <a:off x="3621240" y="275760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767ff"/>
                </a:solidFill>
                <a:latin typeface="黑体"/>
                <a:ea typeface="黑体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26"/>
          <p:cNvSpPr/>
          <p:nvPr/>
        </p:nvSpPr>
        <p:spPr>
          <a:xfrm>
            <a:off x="6643800" y="276876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767ff"/>
                </a:solidFill>
                <a:latin typeface="黑体"/>
                <a:ea typeface="黑体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Oval 27"/>
          <p:cNvSpPr/>
          <p:nvPr/>
        </p:nvSpPr>
        <p:spPr>
          <a:xfrm>
            <a:off x="1763640" y="41911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Oval 28"/>
          <p:cNvSpPr/>
          <p:nvPr/>
        </p:nvSpPr>
        <p:spPr>
          <a:xfrm>
            <a:off x="5116680" y="41911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Oval 29"/>
          <p:cNvSpPr/>
          <p:nvPr/>
        </p:nvSpPr>
        <p:spPr>
          <a:xfrm>
            <a:off x="2297160" y="41911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Oval 30"/>
          <p:cNvSpPr/>
          <p:nvPr/>
        </p:nvSpPr>
        <p:spPr>
          <a:xfrm>
            <a:off x="2830680" y="41911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Oval 31"/>
          <p:cNvSpPr/>
          <p:nvPr/>
        </p:nvSpPr>
        <p:spPr>
          <a:xfrm>
            <a:off x="4545000" y="41911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Oval 32"/>
          <p:cNvSpPr/>
          <p:nvPr/>
        </p:nvSpPr>
        <p:spPr>
          <a:xfrm>
            <a:off x="3973680" y="41911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Oval 33"/>
          <p:cNvSpPr/>
          <p:nvPr/>
        </p:nvSpPr>
        <p:spPr>
          <a:xfrm>
            <a:off x="3363840" y="41911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Oval 34"/>
          <p:cNvSpPr/>
          <p:nvPr/>
        </p:nvSpPr>
        <p:spPr>
          <a:xfrm>
            <a:off x="6183360" y="4191120"/>
            <a:ext cx="380880" cy="380880"/>
          </a:xfrm>
          <a:prstGeom prst="ellipse">
            <a:avLst/>
          </a:prstGeom>
          <a:solidFill>
            <a:srgbClr val="d9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Oval 35"/>
          <p:cNvSpPr/>
          <p:nvPr/>
        </p:nvSpPr>
        <p:spPr>
          <a:xfrm>
            <a:off x="6716880" y="4191120"/>
            <a:ext cx="380880" cy="380880"/>
          </a:xfrm>
          <a:prstGeom prst="ellipse">
            <a:avLst/>
          </a:prstGeom>
          <a:solidFill>
            <a:srgbClr val="d9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36"/>
          <p:cNvSpPr/>
          <p:nvPr/>
        </p:nvSpPr>
        <p:spPr>
          <a:xfrm>
            <a:off x="5867280" y="4006800"/>
            <a:ext cx="0" cy="719280"/>
          </a:xfrm>
          <a:prstGeom prst="line">
            <a:avLst/>
          </a:prstGeom>
          <a:ln cap="rnd" w="57240">
            <a:solidFill>
              <a:srgbClr val="00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5" name="Group 37"/>
          <p:cNvGrpSpPr/>
          <p:nvPr/>
        </p:nvGrpSpPr>
        <p:grpSpPr>
          <a:xfrm>
            <a:off x="1823400" y="4788000"/>
            <a:ext cx="2491200" cy="703440"/>
            <a:chOff x="1823400" y="4788000"/>
            <a:chExt cx="2491200" cy="703440"/>
          </a:xfrm>
        </p:grpSpPr>
        <p:sp>
          <p:nvSpPr>
            <p:cNvPr id="1076" name="Text Box 38"/>
            <p:cNvSpPr/>
            <p:nvPr/>
          </p:nvSpPr>
          <p:spPr>
            <a:xfrm>
              <a:off x="1823400" y="4788000"/>
              <a:ext cx="173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9</a:t>
              </a:r>
              <a:r>
                <a:rPr b="0" lang="zh-CN" sz="40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－</a:t>
              </a:r>
              <a:r>
                <a:rPr b="0" lang="zh-CN" sz="40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2 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39"/>
            <p:cNvSpPr/>
            <p:nvPr/>
          </p:nvSpPr>
          <p:spPr>
            <a:xfrm>
              <a:off x="3552840" y="4892400"/>
              <a:ext cx="76176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8" name="Group 40"/>
          <p:cNvGrpSpPr/>
          <p:nvPr/>
        </p:nvGrpSpPr>
        <p:grpSpPr>
          <a:xfrm>
            <a:off x="4894560" y="4788000"/>
            <a:ext cx="2431800" cy="703440"/>
            <a:chOff x="4894560" y="4788000"/>
            <a:chExt cx="2431800" cy="703440"/>
          </a:xfrm>
        </p:grpSpPr>
        <p:sp>
          <p:nvSpPr>
            <p:cNvPr id="1079" name="Text Box 41"/>
            <p:cNvSpPr/>
            <p:nvPr/>
          </p:nvSpPr>
          <p:spPr>
            <a:xfrm>
              <a:off x="4894560" y="4788000"/>
              <a:ext cx="173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9</a:t>
              </a:r>
              <a:r>
                <a:rPr b="0" lang="zh-CN" sz="40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－</a:t>
              </a:r>
              <a:r>
                <a:rPr b="0" lang="zh-CN" sz="40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7 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42"/>
            <p:cNvSpPr/>
            <p:nvPr/>
          </p:nvSpPr>
          <p:spPr>
            <a:xfrm>
              <a:off x="6564600" y="4892400"/>
              <a:ext cx="761760" cy="533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1" name="Text Box 43"/>
          <p:cNvSpPr/>
          <p:nvPr/>
        </p:nvSpPr>
        <p:spPr>
          <a:xfrm>
            <a:off x="3643200" y="4857840"/>
            <a:ext cx="609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767ff"/>
                </a:solidFill>
                <a:latin typeface="黑体"/>
                <a:ea typeface="黑体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44"/>
          <p:cNvSpPr/>
          <p:nvPr/>
        </p:nvSpPr>
        <p:spPr>
          <a:xfrm>
            <a:off x="6640560" y="485136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767ff"/>
                </a:solidFill>
                <a:latin typeface="黑体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3" name="组合 2"/>
          <p:cNvGrpSpPr/>
          <p:nvPr/>
        </p:nvGrpSpPr>
        <p:grpSpPr>
          <a:xfrm>
            <a:off x="0" y="155520"/>
            <a:ext cx="3713040" cy="527040"/>
            <a:chOff x="0" y="155520"/>
            <a:chExt cx="3713040" cy="527040"/>
          </a:xfrm>
        </p:grpSpPr>
        <p:pic>
          <p:nvPicPr>
            <p:cNvPr id="108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6400" y="155520"/>
              <a:ext cx="3536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5" name="组合 4"/>
            <p:cNvGrpSpPr/>
            <p:nvPr/>
          </p:nvGrpSpPr>
          <p:grpSpPr>
            <a:xfrm>
              <a:off x="0" y="250560"/>
              <a:ext cx="493560" cy="274680"/>
              <a:chOff x="0" y="250560"/>
              <a:chExt cx="493560" cy="274680"/>
            </a:xfrm>
          </p:grpSpPr>
          <p:sp>
            <p:nvSpPr>
              <p:cNvPr id="1086" name="椭圆 11"/>
              <p:cNvSpPr/>
              <p:nvPr/>
            </p:nvSpPr>
            <p:spPr>
              <a:xfrm rot="16200000">
                <a:off x="254880" y="41184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7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2880" y="36504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椭圆 29"/>
              <p:cNvSpPr/>
              <p:nvPr/>
            </p:nvSpPr>
            <p:spPr>
              <a:xfrm rot="16200000">
                <a:off x="254880" y="28188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72880" y="26352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794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542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757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505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Text Box 23"/>
          <p:cNvSpPr/>
          <p:nvPr/>
        </p:nvSpPr>
        <p:spPr>
          <a:xfrm>
            <a:off x="647640" y="1355760"/>
            <a:ext cx="12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23"/>
          <p:cNvSpPr/>
          <p:nvPr/>
        </p:nvSpPr>
        <p:spPr>
          <a:xfrm>
            <a:off x="647640" y="2070000"/>
            <a:ext cx="12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41"/>
          <p:cNvSpPr/>
          <p:nvPr/>
        </p:nvSpPr>
        <p:spPr>
          <a:xfrm>
            <a:off x="4482720" y="1362240"/>
            <a:ext cx="11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41"/>
          <p:cNvSpPr/>
          <p:nvPr/>
        </p:nvSpPr>
        <p:spPr>
          <a:xfrm>
            <a:off x="4482720" y="2076480"/>
            <a:ext cx="11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23"/>
          <p:cNvSpPr/>
          <p:nvPr/>
        </p:nvSpPr>
        <p:spPr>
          <a:xfrm>
            <a:off x="647640" y="2855880"/>
            <a:ext cx="12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23"/>
          <p:cNvSpPr/>
          <p:nvPr/>
        </p:nvSpPr>
        <p:spPr>
          <a:xfrm>
            <a:off x="647640" y="3641760"/>
            <a:ext cx="12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41"/>
          <p:cNvSpPr/>
          <p:nvPr/>
        </p:nvSpPr>
        <p:spPr>
          <a:xfrm>
            <a:off x="4482720" y="2862360"/>
            <a:ext cx="11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41"/>
          <p:cNvSpPr/>
          <p:nvPr/>
        </p:nvSpPr>
        <p:spPr>
          <a:xfrm>
            <a:off x="4482720" y="3648240"/>
            <a:ext cx="11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2" name="内容占位符 7177" descr="5"/>
          <p:cNvPicPr/>
          <p:nvPr/>
        </p:nvPicPr>
        <p:blipFill>
          <a:blip r:embed="rId1"/>
          <a:stretch/>
        </p:blipFill>
        <p:spPr>
          <a:xfrm flipH="1">
            <a:off x="6897240" y="4321080"/>
            <a:ext cx="1419480" cy="2009880"/>
          </a:xfrm>
          <a:prstGeom prst="rect">
            <a:avLst/>
          </a:prstGeom>
          <a:ln w="0">
            <a:noFill/>
          </a:ln>
        </p:spPr>
      </p:pic>
      <p:sp>
        <p:nvSpPr>
          <p:cNvPr id="1103" name="Text Box 25"/>
          <p:cNvSpPr/>
          <p:nvPr/>
        </p:nvSpPr>
        <p:spPr>
          <a:xfrm>
            <a:off x="1801800" y="1413000"/>
            <a:ext cx="60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25"/>
          <p:cNvSpPr/>
          <p:nvPr/>
        </p:nvSpPr>
        <p:spPr>
          <a:xfrm>
            <a:off x="5645160" y="1413000"/>
            <a:ext cx="60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25"/>
          <p:cNvSpPr/>
          <p:nvPr/>
        </p:nvSpPr>
        <p:spPr>
          <a:xfrm>
            <a:off x="1835280" y="2133720"/>
            <a:ext cx="60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25"/>
          <p:cNvSpPr/>
          <p:nvPr/>
        </p:nvSpPr>
        <p:spPr>
          <a:xfrm>
            <a:off x="5645160" y="2133720"/>
            <a:ext cx="60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25"/>
          <p:cNvSpPr/>
          <p:nvPr/>
        </p:nvSpPr>
        <p:spPr>
          <a:xfrm>
            <a:off x="1835280" y="2925720"/>
            <a:ext cx="60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25"/>
          <p:cNvSpPr/>
          <p:nvPr/>
        </p:nvSpPr>
        <p:spPr>
          <a:xfrm>
            <a:off x="5611680" y="2925720"/>
            <a:ext cx="609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25"/>
          <p:cNvSpPr/>
          <p:nvPr/>
        </p:nvSpPr>
        <p:spPr>
          <a:xfrm>
            <a:off x="1908000" y="3718080"/>
            <a:ext cx="609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25"/>
          <p:cNvSpPr/>
          <p:nvPr/>
        </p:nvSpPr>
        <p:spPr>
          <a:xfrm>
            <a:off x="5611680" y="3718080"/>
            <a:ext cx="609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组合 2"/>
          <p:cNvGrpSpPr/>
          <p:nvPr/>
        </p:nvGrpSpPr>
        <p:grpSpPr>
          <a:xfrm>
            <a:off x="0" y="155520"/>
            <a:ext cx="3713040" cy="527040"/>
            <a:chOff x="0" y="155520"/>
            <a:chExt cx="3713040" cy="527040"/>
          </a:xfrm>
        </p:grpSpPr>
        <p:pic>
          <p:nvPicPr>
            <p:cNvPr id="1112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76400" y="155520"/>
              <a:ext cx="3536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3" name="组合 4"/>
            <p:cNvGrpSpPr/>
            <p:nvPr/>
          </p:nvGrpSpPr>
          <p:grpSpPr>
            <a:xfrm>
              <a:off x="0" y="250560"/>
              <a:ext cx="493560" cy="274680"/>
              <a:chOff x="0" y="250560"/>
              <a:chExt cx="493560" cy="274680"/>
            </a:xfrm>
          </p:grpSpPr>
          <p:sp>
            <p:nvSpPr>
              <p:cNvPr id="1114" name="椭圆 11"/>
              <p:cNvSpPr/>
              <p:nvPr/>
            </p:nvSpPr>
            <p:spPr>
              <a:xfrm rot="16200000">
                <a:off x="254880" y="41184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5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72880" y="36504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6" name="椭圆 29"/>
              <p:cNvSpPr/>
              <p:nvPr/>
            </p:nvSpPr>
            <p:spPr>
              <a:xfrm rot="16200000">
                <a:off x="254880" y="28188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7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72880" y="26352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8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794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9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542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0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757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1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2505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dc:language>en-US</dc:language>
  <cp:lastModifiedBy>万润仪器贸易公司</cp:lastModifiedBy>
  <dcterms:modified xsi:type="dcterms:W3CDTF">2020-08-18T09:48:10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